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6FB4-49D8-4102-8565-FF91DCD0FC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6000    2/1 in 8     3/179kg     4/1.3 billion tonnes     5/ about a bi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C406-23DC-4C20-80BA-CAC5178F15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the questions and predict the answers first, then read the article to check. Key: 1/ to raise awareness of food waste 2/in homes, cutting beans to fit boxes, throwing away fruit with marks, not packing food well, cancelling or reducing orders etc  3/ making food waste information public  4/putting pressure on supermarkets, asking questions, buying odd shaped fruit and veg, cutting food waste in homes, pledging to reduce waste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2FF3-F649-4C0B-9B88-9501886000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0AE-B9CC-4B31-9B57-769C549E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6B8-C3B9-4E4A-B547-1DF56A9E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CB1-DAA8-4518-B32D-987C72C2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D52-3DC0-435A-8EA4-2DD7EB26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FD3-6F2D-4904-B970-D65B8ACA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E30-FEC0-4341-A761-674DDDD8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4C1-3A38-4DA6-97C6-77BB8BD5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EF3-CF70-4599-BD0C-4FB039BA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630-C152-485C-BF9B-E2C15A67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274-AE8E-4002-BC8F-F3785F25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606-8B4B-425A-B72F-66BE6E04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CE2-2932-4982-B898-EC25595B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147E-E20A-4C98-9D56-8CAFC14AE5B7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eewiki.newint.org/index.php/Stopping_food_waste,_one_picnic_at_a_time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eewiki.newint.org/index.php/Stopping_food_waste,_one_picnic_at_a_time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feeding5k.org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182520" y="1847880"/>
            <a:ext cx="9163080" cy="3436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280" y="4869000"/>
            <a:ext cx="820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NEW INTERNATIONALIST  EASIER ENGLISH INTERMEDIATE READY LES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127320" y="189000"/>
            <a:ext cx="601668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174600" y="260280"/>
            <a:ext cx="28702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/ How many people could you feed with 750kg of vegetables?                                               60/600/600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/ How many people go hungry in the world at the moment?                                    1 in 4 / 1 in 8 / 1 in 1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/ How much food is wasted in Europe per year per person?                                   179kg / 257 kg / 346 k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4/ How much food in total is wasted in the whole world per year?                  1.1/1.3/1.5 billion tonn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5/ How many people in the world can’t get enough food to live?     about a million / a billion / a trill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Look through the article to check – 2 minutes only!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eewiki.newint.org/index.php/Stopping_food_waste,_one_picnic_at_a_ti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3203640" y="3645000"/>
            <a:ext cx="47703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481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94920" y="126792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1/ Why did volunteers cook and give away 600 meals in Brussels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2/ Name 4 ways in which food is often wast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3/ How are some supermarkets trying to reduce food wast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4/ What can the public do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to help cut food wast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ook Antiqua"/>
              </a:rPr>
              <a:t>Now read again:</a:t>
            </a:r>
            <a:r>
              <a:rPr b="0" lang="en-GB" sz="15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eewiki.newint.org/index.php/Stopping_food_waste,_one_picnic_at_a_time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5724360" y="4103640"/>
            <a:ext cx="31435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139680" y="-73080"/>
            <a:ext cx="5559480" cy="286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8000" y="242064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Choose one of thes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Find out about this movement and tell others: </a:t>
            </a:r>
            <a:r>
              <a:rPr b="0" lang="en-GB" sz="32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www.feeding5k.org/</a:t>
            </a: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Make a poster to tell people about food waste and suggest how we can reduce i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Write to your local supermarket manager to make sugges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5432400" y="333360"/>
            <a:ext cx="3510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785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863360"/>
            <a:ext cx="822960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1/ Read the original article: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http://newint.org/features/web-exclusive/2014/04/04/feeding-the-5000-brussels-food-waste/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nd note down all the new/useful words and phrases you find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2/ Choose another Easier English article about food to read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http://eewiki.newint.org/index.php/Category:Foo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6516720" y="189000"/>
            <a:ext cx="2521080" cy="167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108000" y="85680"/>
            <a:ext cx="25192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9:31:36Z</dcterms:created>
  <dc:creator>Linda Ruas</dc:creator>
  <dc:description/>
  <dc:language>en-US</dc:language>
  <cp:lastModifiedBy>Linda Ruas</cp:lastModifiedBy>
  <dcterms:modified xsi:type="dcterms:W3CDTF">2014-04-14T20:27:52Z</dcterms:modified>
  <cp:revision>11</cp:revision>
  <dc:subject/>
  <dc:title>How to stop food waste</dc:title>
</cp:coreProperties>
</file>